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661-5F8C-413B-B513-F9113CC7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35A-ADED-46E7-B84A-007446E3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59E-7804-4FA4-B632-A57294EE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66F-8F34-4F2E-8B1E-92571E1C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A80A-D3B5-442C-BD5C-7D027051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798B-1A97-4F14-A08F-5B3AFD93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5A13-D6F0-4E27-A667-855A4700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C9AC-9980-4EA6-AC4D-F43E49DF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F62C-9CB4-41C4-94C4-0B32ED3F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0EB3-DA79-44DA-BF48-B2199EB1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2619-CB49-4CDA-AAC2-9090BF8E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DE4-8A22-4C5F-98E3-90B27309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1A9B-B5F5-4E38-A358-82C72C90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DD4F-BF1B-460C-AA26-41376F48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45D1-B376-47FE-80D5-EE6E19B0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3CB1-3E12-4971-AAD7-8EEC14BC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A8C5-834B-4F0E-B9D0-2F0684A6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205-6251-4676-98E4-5925EED7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260-A095-418B-9CC3-2F45BC81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5A6-5E39-4687-95BE-54A0BD99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E59-8DE4-4425-BB92-DBB1848E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188-6A99-45ED-AE20-BAB18114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585-076F-4688-B7AB-7C18619A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E8D-3716-46FC-B738-F8517CA0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CA30-4595-4C1A-9903-91FAB3E053D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418E-794D-4521-8EFA-67E954291E6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8.02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ome Safety and Secur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UCH PA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Used to enter a specific code to open a door such as garage or activate an alarm system inside the home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OOR VIE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Piece of hardware installed with a lens in order to see who is on the other side of the door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Best to place 2 heights so children can see as well as adults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ighting for Safe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otion Sens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Lighting that is set to come on when there is any motion within set number of feet from light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Can be set off by any movement and will stay on for specified amount of time (usually 5 minutes)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Generally placed outdoors at corners of house, over garage door, near storage buildings,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ime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</a:rPr>
              <a:t>Used to turn lights or other electronic devises on and off at certain times of the day and night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</a:rPr>
              <a:t>Each timer can be set differently in each room to give the appearance of movement inside the home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UL SE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</a:rPr>
              <a:t>(Underwriters Laboratories) found on all electrical items to show that the item meets certain safety standards when used properly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ire Safe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moke Detect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Sends a loud warning signal if a fire star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Easy to instal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Should be placed on each floor of home/buil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Usually battery operated, should be checked every 6 months to one ye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ire Extinguis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Classified by type of burning materials they handle, should be placed in kitchens, garages, basements, on each floor of house/building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b5249"/>
                </a:solidFill>
                <a:uFillTx/>
                <a:latin typeface="Lucida Sans"/>
                <a:ea typeface="Times New Roman"/>
              </a:rPr>
              <a:t>Class A</a:t>
            </a:r>
            <a:r>
              <a:rPr b="0" lang="en-US" sz="20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: paper, wood, fabric, other “ordinary combustibles”, made from WAT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b5249"/>
                </a:solidFill>
                <a:uFillTx/>
                <a:latin typeface="Lucida Sans"/>
                <a:ea typeface="Times New Roman"/>
              </a:rPr>
              <a:t>Class B</a:t>
            </a:r>
            <a:r>
              <a:rPr b="0" lang="en-US" sz="20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: liquids (cooking oil/grease), gases, paints, solvents, made from FOAM, CHEMICAL, DRY-POWD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b5249"/>
                </a:solidFill>
                <a:uFillTx/>
                <a:latin typeface="Lucida Sans"/>
                <a:ea typeface="Times New Roman"/>
              </a:rPr>
              <a:t>Class C</a:t>
            </a:r>
            <a:r>
              <a:rPr b="0" lang="en-US" sz="20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electrical fires, made from CARBON DIOXIDE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 Securi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Lucida Sans"/>
              </a:rPr>
              <a:t>Deadbolts:</a:t>
            </a:r>
            <a:r>
              <a:rPr b="0" lang="en-US" sz="2800" spc="-1" strike="noStrike">
                <a:solidFill>
                  <a:srgbClr val="5b5249"/>
                </a:solidFill>
                <a:latin typeface="Lucida Sans"/>
              </a:rPr>
              <a:t> lock bolt that unlocks by turning a knob or key without the action of a spring. For safety, use a lock that requires that a key be used to open from inside and outsid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Lucida Sans"/>
              </a:rPr>
              <a:t>Bolt should extend into the doorjamb a minimum of 1 inch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Lucida Sans"/>
              </a:rPr>
              <a:t>Doors with this type lock </a:t>
            </a:r>
            <a:r>
              <a:rPr b="0" lang="en-US" sz="2800" spc="-1" strike="noStrike" u="sng">
                <a:solidFill>
                  <a:srgbClr val="5b5249"/>
                </a:solidFill>
                <a:uFillTx/>
                <a:latin typeface="Lucida Sans"/>
              </a:rPr>
              <a:t>cannot</a:t>
            </a:r>
            <a:r>
              <a:rPr b="0" lang="en-US" sz="2800" spc="-1" strike="noStrike">
                <a:solidFill>
                  <a:srgbClr val="5b5249"/>
                </a:solidFill>
                <a:latin typeface="Lucida Sans"/>
              </a:rPr>
              <a:t> be opened with a credit card or screwdriv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ocks (con’t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Lucida Sans"/>
              </a:rPr>
              <a:t>Spring locks</a:t>
            </a:r>
            <a:r>
              <a:rPr b="0" lang="en-US" sz="2800" spc="-1" strike="noStrike">
                <a:solidFill>
                  <a:srgbClr val="5b5249"/>
                </a:solidFill>
                <a:latin typeface="Lucida Sans"/>
              </a:rPr>
              <a:t>: commonly found on interior doors. Usually a lock on the door knob that turns to lock from one side. Can be opened from opposite sid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Lucida Sans"/>
              </a:rPr>
              <a:t>Window locks</a:t>
            </a:r>
            <a:r>
              <a:rPr b="0" lang="en-US" sz="2800" spc="-1" strike="noStrike">
                <a:solidFill>
                  <a:srgbClr val="5b5249"/>
                </a:solidFill>
                <a:latin typeface="Lucida Sans"/>
              </a:rPr>
              <a:t>: usually the thumb-turn lock found on double-hung windows can easily be pried open. Add keyed locks to windows on lower floors, but avoid these locks on bedroom windows because they can slow escaping from a fi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LA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Electronic system that can be triggered by attempts to force open a door or window. Can be very simple (barking dog sound, loud siren) or complex (motion detector, electric eyes, intercom system). Can be set by family with a particular code. If alarm is activated, company monitoring the system will contact police/fir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IMETR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Identification of an individual by a unique physical characteristic (fingerprints, pattern of eye iris, vein patterns in hand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0:48:49Z</dcterms:created>
  <dc:creator> sherry brooks</dc:creator>
  <dc:description/>
  <dc:language>en-US</dc:language>
  <cp:lastModifiedBy> sherry brooks</cp:lastModifiedBy>
  <dcterms:modified xsi:type="dcterms:W3CDTF">2009-05-11T01:42:22Z</dcterms:modified>
  <cp:revision>2</cp:revision>
  <dc:subject/>
  <dc:title>8.02 </dc:title>
</cp:coreProperties>
</file>